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5E85-73D7-4FDF-A99C-3E1810524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5134-B5A5-40FA-BC7D-6F71FFB4F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CECB-2E9E-430E-9E93-72E888FD4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51A7-0987-46FB-BE2D-549DBC44A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CE85-F878-44A9-BCDA-42DE21FC76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811A-909F-4AA4-B2E8-2407C816D5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E130-E120-4E8B-8952-76BE9360F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382-5120-496E-893E-6C5FFFDA6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A238-3347-4983-A77E-9A0EF098D3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04BC-88E5-448E-B249-732FCCCCAB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A2ED-0E6B-4CBF-A221-8AB7AEA5AF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5ED3-D9A8-491D-8327-C22B314B02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09C5-9FDC-406F-9CBD-200D0DB8B0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EC68-2A28-4358-A19C-C117EA1EBC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E61F-939C-4A54-887B-A3EBC15D8B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F2A2-A4B8-4964-964F-E93874AA47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FC71-EA6E-465A-A044-B38947D163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6E3E-4475-4E15-802B-32E8DAF99F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F79C-C2FC-4528-851E-1D1AD6ADA8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173C-EBE7-4F5D-A183-6FD176B5D9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1C8-979E-45A6-A55F-8FEB8133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17F-21C7-4381-83B3-9FA4E67B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EB7-950D-4239-AF9F-58A4C665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898-D35D-48D8-BC9B-A518B5FD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6F4D-4931-4EE5-898E-64DBCF76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11C7-5E0E-492F-8295-FD9D3A0D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D4A1-621E-4F0D-8257-3C74E25C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50AC-458A-41BB-A470-478149F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2919-FE52-4D64-9041-B5856441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BE86-CA2D-4754-A45C-DC0A4024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033B-DC83-43CB-9857-58875DB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130-A388-443B-A205-8AEB0845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1E5B-BE1D-4D8C-B3C5-1AB676F7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440A-286F-4017-8E69-9E0657B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8B1A-DAB3-4D15-9442-6D8105A0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D7D7-39E3-410C-B466-4D140DF6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6905-AA67-4BCA-B648-7B84E786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1A8-CC52-4F03-AD49-53C28A41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F38-8DB7-440F-834E-7DF860DB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6AD-D9C9-4FCF-B7C7-C68F6C59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D17-1B36-47E9-8498-2B419970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604-694C-42F7-8FAE-62EAAE00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490-3E20-4F4F-BD99-EA4D00F0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ED7-EF59-4141-A989-73C5A477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6E23-4F8D-4D61-9849-90BA02781E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13C2-3665-412A-811A-7E30EE07C3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addula@caldwellschools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9680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Rewarding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PAWS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-itive Behavior</a:t>
            </a:r>
            <a:endParaRPr b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drienne Dula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istant Principal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Gamewell Elemen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Back to School Bulldog[1]"/>
          <p:cNvPicPr/>
          <p:nvPr/>
        </p:nvPicPr>
        <p:blipFill>
          <a:blip r:embed="rId1"/>
          <a:stretch/>
        </p:blipFill>
        <p:spPr>
          <a:xfrm>
            <a:off x="6477120" y="2895480"/>
            <a:ext cx="1923840" cy="2727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914400" y="243756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reative Incentives and Fun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Bulldog Does His Bes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 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inforce Rules for Young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Treasures Publi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8" descr="03-25-2012 08;27;47PM"/>
          <p:cNvPicPr/>
          <p:nvPr/>
        </p:nvPicPr>
        <p:blipFill>
          <a:blip r:embed="rId1"/>
          <a:stretch/>
        </p:blipFill>
        <p:spPr>
          <a:xfrm>
            <a:off x="5105520" y="1981080"/>
            <a:ext cx="373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03-28-2012 09;05;26PM"/>
          <p:cNvPicPr/>
          <p:nvPr/>
        </p:nvPicPr>
        <p:blipFill>
          <a:blip r:embed="rId1"/>
          <a:stretch/>
        </p:blipFill>
        <p:spPr>
          <a:xfrm>
            <a:off x="914400" y="304920"/>
            <a:ext cx="7639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3-28-2012 09;09;34PM"/>
          <p:cNvPicPr/>
          <p:nvPr/>
        </p:nvPicPr>
        <p:blipFill>
          <a:blip r:embed="rId1"/>
          <a:stretch/>
        </p:blipFill>
        <p:spPr>
          <a:xfrm>
            <a:off x="990720" y="533520"/>
            <a:ext cx="76960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IMG_0411"/>
          <p:cNvPicPr/>
          <p:nvPr/>
        </p:nvPicPr>
        <p:blipFill>
          <a:blip r:embed="rId1"/>
          <a:stretch/>
        </p:blipFill>
        <p:spPr>
          <a:xfrm>
            <a:off x="1143000" y="76212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sults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62120" y="2079720"/>
          <a:ext cx="716256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79720"/>
                    <a:ext cx="716256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6"/>
          <p:cNvSpPr/>
          <p:nvPr/>
        </p:nvSpPr>
        <p:spPr>
          <a:xfrm>
            <a:off x="2209680" y="2514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114800" y="463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943600" y="4800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066680" y="1371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otal Bus Referrals by School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7696080" y="518004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3% decrease in 3 yea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7432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Bully-Busters</a:t>
            </a:r>
            <a:endParaRPr b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Keys to Success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 Every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owering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inistrative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flections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 Insp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BIS Reflec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video is about m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066680" y="1371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If I knew then, what I know now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  <a:ea typeface="Tahoma"/>
              </a:rPr>
              <a:t>Questions</a:t>
            </a:r>
            <a:endParaRPr b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rienne Dul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Davenport A+ School</a:t>
            </a:r>
            <a:br>
              <a:rPr sz="4400"/>
            </a:b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ddula@caldwellschools.com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oday’s Objectives…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amewell Elementary School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874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62 Students, Grades PK-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dwell County - Foothills of western N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oximately 78% Free &amp; Reduced; Trans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5% Attendance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 Family Support Team (CF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Ribbon Scho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d into a school implementing PB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Tahoma"/>
              </a:rPr>
              <a:t>Four Principals in 4 yea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warding Positive Behavior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lldog Tic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ly Draw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ature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ounc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nch with Ad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ward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70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 Ba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corn &amp; a Mov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nch on the S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lldog Caf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wser P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ed Re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 at the Pa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School-wide Support</a:t>
            </a:r>
            <a:endParaRPr b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Improvemen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Line I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Partnerships (Food 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ent Tal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buscartoon"/>
          <p:cNvPicPr/>
          <p:nvPr/>
        </p:nvPicPr>
        <p:blipFill>
          <a:blip r:embed="rId1"/>
          <a:stretch/>
        </p:blipFill>
        <p:spPr>
          <a:xfrm>
            <a:off x="1905120" y="2057400"/>
            <a:ext cx="5638680" cy="3948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Bus Riders Behaving Bad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Bus Riders Behaving Badly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10-2011 school year, 40% of all referrals were bus re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 bus routes accounted for 35% of refer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pecific grade level had 38% of all refer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peak months for refer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est Behaved Bus 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ed Expec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portunity to earn a PAW each 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ivers Distributed Bulldog Tick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ekly Bus Route Re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s Riders of the 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s Volunte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ccff"/>
                </a:solidFill>
                <a:latin typeface="Tahoma"/>
              </a:rPr>
              <a:t>Reinforcing Rules with Younger Ri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21" descr=""/>
          <p:cNvPicPr/>
          <p:nvPr/>
        </p:nvPicPr>
        <p:blipFill>
          <a:blip r:embed="rId1"/>
          <a:srcRect l="50253" t="15583" r="24389" b="40260"/>
          <a:stretch/>
        </p:blipFill>
        <p:spPr>
          <a:xfrm>
            <a:off x="5791320" y="2133720"/>
            <a:ext cx="315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est Behaved Bus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zed on morning announc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sicle passes redeemed in the cafe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assigned se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 Drivers recogn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 Riders of the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MC900134537[1]"/>
          <p:cNvPicPr/>
          <p:nvPr/>
        </p:nvPicPr>
        <p:blipFill>
          <a:blip r:embed="rId1"/>
          <a:stretch/>
        </p:blipFill>
        <p:spPr>
          <a:xfrm>
            <a:off x="6338880" y="3962520"/>
            <a:ext cx="20653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20:06:53Z</dcterms:created>
  <dc:creator>ADula</dc:creator>
  <dc:description/>
  <dc:language>en-US</dc:language>
  <cp:lastModifiedBy>Adrienne Dula</cp:lastModifiedBy>
  <dcterms:modified xsi:type="dcterms:W3CDTF">2013-09-10T20:51:12Z</dcterms:modified>
  <cp:revision>86</cp:revision>
  <dc:subject/>
  <dc:title>Slide 1</dc:title>
</cp:coreProperties>
</file>